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2D5-6418-43C2-92AB-C5E87792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305-3A2E-4B1F-9A97-40AFAC2D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0DF-6BD7-4BDF-84D9-4C9F33A3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971-33FC-414D-8F47-098D0FC8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7EA-0A53-40F0-838C-FA7415C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875-84D4-4CC8-97D7-AC8F205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37F-7AF0-4733-BD28-92786112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175-D6F3-41F4-B743-C3536E3C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ECC-D398-4B11-BA9F-8590BD8F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4A3-4ACB-4B4C-8AA5-5361BED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733-ED69-43EA-B8F7-32CFA4D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C04-882E-4D2A-B1BA-C3F9616D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1CDD-6B99-4C4C-9658-47886DBD6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gg Experi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n egg from the carton…not bo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it in a glass and cover with vinegar. Wash your ha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3 hours observe and record what you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hold your egg and dump out the old vinegar and add fresh vine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it sit in fresh vinegar over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 up and…CAREFULLY hold your egg while dumping the old vinegar and add fresh once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 off gently and place in a bath of color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your egg at home and come to school to learn what to do nex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38680" y="-533520"/>
            <a:ext cx="2743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4:11:55Z</dcterms:created>
  <dc:creator>ctcriss</dc:creator>
  <dc:description/>
  <dc:language>en-US</dc:language>
  <cp:lastModifiedBy>ctcriss</cp:lastModifiedBy>
  <dcterms:modified xsi:type="dcterms:W3CDTF">2011-04-08T14:12:06Z</dcterms:modified>
  <cp:revision>1</cp:revision>
  <dc:subject/>
  <dc:title>Egg Experiment</dc:title>
</cp:coreProperties>
</file>